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6.wmf" ContentType="image/x-wmf"/>
  <Override PartName="/ppt/media/image23.png" ContentType="image/png"/>
  <Override PartName="/ppt/media/image22.wmf" ContentType="image/x-wmf"/>
  <Override PartName="/ppt/media/image20.jpeg" ContentType="image/jpeg"/>
  <Override PartName="/ppt/media/image21.png" ContentType="image/png"/>
  <Override PartName="/ppt/media/image19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9.png" ContentType="image/png"/>
  <Override PartName="/ppt/media/image1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32.wmf" ContentType="image/x-wmf"/>
  <Override PartName="/ppt/media/image12.wmf" ContentType="image/x-wmf"/>
  <Override PartName="/ppt/media/image13.png" ContentType="image/png"/>
  <Override PartName="/ppt/media/image36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7.wmf" ContentType="image/x-wmf"/>
  <Override PartName="/ppt/media/image37.wmf" ContentType="image/x-wmf"/>
  <Override PartName="/ppt/media/image6.png" ContentType="image/png"/>
  <Override PartName="/ppt/media/image5.wmf" ContentType="image/x-wmf"/>
  <Override PartName="/ppt/media/image35.wmf" ContentType="image/x-wmf"/>
  <Override PartName="/ppt/media/image15.png" ContentType="image/png"/>
  <Override PartName="/ppt/media/image1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png" ContentType="image/png"/>
  <Override PartName="/ppt/media/image25.png" ContentType="image/png"/>
  <Override PartName="/ppt/media/image2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  <p:sldId id="279" r:id="rId44"/>
    <p:sldId id="280" r:id="rId45"/>
    <p:sldId id="281" r:id="rId46"/>
    <p:sldId id="282" r:id="rId47"/>
    <p:sldId id="283" r:id="rId48"/>
    <p:sldId id="284" r:id="rId49"/>
    <p:sldId id="285" r:id="rId50"/>
    <p:sldId id="286" r:id="rId51"/>
    <p:sldId id="287" r:id="rId52"/>
    <p:sldId id="288" r:id="rId53"/>
    <p:sldId id="289" r:id="rId54"/>
    <p:sldId id="290" r:id="rId55"/>
    <p:sldId id="291" r:id="rId56"/>
    <p:sldId id="292" r:id="rId57"/>
    <p:sldId id="293" r:id="rId58"/>
    <p:sldId id="294" r:id="rId59"/>
    <p:sldId id="295" r:id="rId60"/>
    <p:sldId id="296" r:id="rId61"/>
    <p:sldId id="297" r:id="rId62"/>
    <p:sldId id="298" r:id="rId63"/>
    <p:sldId id="299" r:id="rId64"/>
    <p:sldId id="300" r:id="rId65"/>
    <p:sldId id="301" r:id="rId66"/>
    <p:sldId id="302" r:id="rId67"/>
    <p:sldId id="303" r:id="rId68"/>
    <p:sldId id="304" r:id="rId69"/>
    <p:sldId id="305" r:id="rId70"/>
    <p:sldId id="306" r:id="rId71"/>
    <p:sldId id="307" r:id="rId72"/>
    <p:sldId id="308" r:id="rId73"/>
    <p:sldId id="309" r:id="rId74"/>
    <p:sldId id="310" r:id="rId75"/>
    <p:sldId id="311" r:id="rId76"/>
    <p:sldId id="312" r:id="rId77"/>
    <p:sldId id="313" r:id="rId78"/>
  </p:sldIdLst>
  <p:sldSz cx="9902825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slide" Target="slides/slide24.xml"/><Relationship Id="rId45" Type="http://schemas.openxmlformats.org/officeDocument/2006/relationships/slide" Target="slides/slide25.xml"/><Relationship Id="rId46" Type="http://schemas.openxmlformats.org/officeDocument/2006/relationships/slide" Target="slides/slide26.xml"/><Relationship Id="rId47" Type="http://schemas.openxmlformats.org/officeDocument/2006/relationships/slide" Target="slides/slide27.xml"/><Relationship Id="rId48" Type="http://schemas.openxmlformats.org/officeDocument/2006/relationships/slide" Target="slides/slide28.xml"/><Relationship Id="rId49" Type="http://schemas.openxmlformats.org/officeDocument/2006/relationships/slide" Target="slides/slide29.xml"/><Relationship Id="rId50" Type="http://schemas.openxmlformats.org/officeDocument/2006/relationships/slide" Target="slides/slide30.xml"/><Relationship Id="rId51" Type="http://schemas.openxmlformats.org/officeDocument/2006/relationships/slide" Target="slides/slide31.xml"/><Relationship Id="rId52" Type="http://schemas.openxmlformats.org/officeDocument/2006/relationships/slide" Target="slides/slide32.xml"/><Relationship Id="rId53" Type="http://schemas.openxmlformats.org/officeDocument/2006/relationships/slide" Target="slides/slide33.xml"/><Relationship Id="rId54" Type="http://schemas.openxmlformats.org/officeDocument/2006/relationships/slide" Target="slides/slide34.xml"/><Relationship Id="rId55" Type="http://schemas.openxmlformats.org/officeDocument/2006/relationships/slide" Target="slides/slide35.xml"/><Relationship Id="rId56" Type="http://schemas.openxmlformats.org/officeDocument/2006/relationships/slide" Target="slides/slide36.xml"/><Relationship Id="rId57" Type="http://schemas.openxmlformats.org/officeDocument/2006/relationships/slide" Target="slides/slide37.xml"/><Relationship Id="rId58" Type="http://schemas.openxmlformats.org/officeDocument/2006/relationships/slide" Target="slides/slide38.xml"/><Relationship Id="rId59" Type="http://schemas.openxmlformats.org/officeDocument/2006/relationships/slide" Target="slides/slide39.xml"/><Relationship Id="rId60" Type="http://schemas.openxmlformats.org/officeDocument/2006/relationships/slide" Target="slides/slide40.xml"/><Relationship Id="rId61" Type="http://schemas.openxmlformats.org/officeDocument/2006/relationships/slide" Target="slides/slide41.xml"/><Relationship Id="rId62" Type="http://schemas.openxmlformats.org/officeDocument/2006/relationships/slide" Target="slides/slide42.xml"/><Relationship Id="rId63" Type="http://schemas.openxmlformats.org/officeDocument/2006/relationships/slide" Target="slides/slide43.xml"/><Relationship Id="rId64" Type="http://schemas.openxmlformats.org/officeDocument/2006/relationships/slide" Target="slides/slide44.xml"/><Relationship Id="rId65" Type="http://schemas.openxmlformats.org/officeDocument/2006/relationships/slide" Target="slides/slide45.xml"/><Relationship Id="rId66" Type="http://schemas.openxmlformats.org/officeDocument/2006/relationships/slide" Target="slides/slide46.xml"/><Relationship Id="rId67" Type="http://schemas.openxmlformats.org/officeDocument/2006/relationships/slide" Target="slides/slide47.xml"/><Relationship Id="rId68" Type="http://schemas.openxmlformats.org/officeDocument/2006/relationships/slide" Target="slides/slide48.xml"/><Relationship Id="rId69" Type="http://schemas.openxmlformats.org/officeDocument/2006/relationships/slide" Target="slides/slide49.xml"/><Relationship Id="rId70" Type="http://schemas.openxmlformats.org/officeDocument/2006/relationships/slide" Target="slides/slide50.xml"/><Relationship Id="rId71" Type="http://schemas.openxmlformats.org/officeDocument/2006/relationships/slide" Target="slides/slide51.xml"/><Relationship Id="rId72" Type="http://schemas.openxmlformats.org/officeDocument/2006/relationships/slide" Target="slides/slide52.xml"/><Relationship Id="rId73" Type="http://schemas.openxmlformats.org/officeDocument/2006/relationships/slide" Target="slides/slide53.xml"/><Relationship Id="rId74" Type="http://schemas.openxmlformats.org/officeDocument/2006/relationships/slide" Target="slides/slide54.xml"/><Relationship Id="rId75" Type="http://schemas.openxmlformats.org/officeDocument/2006/relationships/slide" Target="slides/slide55.xml"/><Relationship Id="rId76" Type="http://schemas.openxmlformats.org/officeDocument/2006/relationships/slide" Target="slides/slide56.xml"/><Relationship Id="rId77" Type="http://schemas.openxmlformats.org/officeDocument/2006/relationships/slide" Target="slides/slide57.xml"/><Relationship Id="rId78" Type="http://schemas.openxmlformats.org/officeDocument/2006/relationships/slide" Target="slides/slide58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0" y="0"/>
            <a:ext cx="67932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dt" idx="52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move the slid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ftr" idx="53"/>
          </p:nvPr>
        </p:nvSpPr>
        <p:spPr>
          <a:xfrm>
            <a:off x="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6"/>
          <p:cNvSpPr>
            <a:spLocks noGrp="1"/>
          </p:cNvSpPr>
          <p:nvPr>
            <p:ph type="sldNum" idx="54"/>
          </p:nvPr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85A7F8-BB7A-487C-8193-6DF2BB2E82D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F53809-03E5-4EDF-B13C-CCB0352BDD15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712800" y="743040"/>
            <a:ext cx="5370480" cy="371952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06480" y="4710240"/>
            <a:ext cx="498168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Slide Number Placeholder 3"/>
          <p:cNvSpPr/>
          <p:nvPr/>
        </p:nvSpPr>
        <p:spPr>
          <a:xfrm>
            <a:off x="3849840" y="94233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5E85DF-23C7-49B4-BFD1-4C4FC55E9FC4}" type="slidenum">
              <a:rPr b="0" lang="en-GB" sz="1200" spc="-1" strike="noStrike">
                <a:solidFill>
                  <a:srgbClr val="8f210b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EC2A-64C3-449A-B7E5-CCDA72D0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1CBA-9153-4563-8109-79D96358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0D7D4-83CC-4B4E-9B9C-21ED90C1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19A78F-8E3B-4492-AF28-9419F0BD7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A4172B-9B4D-4DF3-9F84-9439DDAB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16768-1BA8-4F9F-87ED-CAC01D72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4F051-0F63-4BBB-AE35-DDF11330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C96BC-E661-4A4A-AE8F-FED4526C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21D48-D121-4794-BF12-98A637C8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88DBE-65F2-4754-B016-687E4A0CD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33E3B-44C4-4B9E-8DE9-6C2993A64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613650-4C9D-4C3B-B28E-E54B154B6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6D28-5BFD-4CA3-9244-516D598B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BBE7EB-E151-45A5-88FC-36F8D2D8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2323F-E9E3-4418-95A0-01D66DB6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969F4-1BD2-49B2-913B-6C882729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94D1D-657C-45B0-AF41-33C09E8E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4F608-EC6E-49BF-B4AF-49D3D1AB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63CB3D-0CA9-4A5F-ADD9-E15476EC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45A31-88AD-4027-BE36-C53E9365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AC6D9-27AD-4C95-8B29-BC4F8EC4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F39E0-23B7-45C4-9A3B-E3ED16E2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DA02D-CA0E-40FE-825A-46AFE7F0D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C747-4F55-4B13-A5FA-2F97F0365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674DA7-5360-4AD2-8166-A5B7EE50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727718-418E-4E45-B5CB-0DCDBC52F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10D8A-123F-4A01-8830-9066CEBCB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3E9FE-3CE7-4142-9B71-AEB06F2A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2DE081-A3CE-4B5A-B2D4-CAD1493B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5CF18A-8C9E-4FB3-AFD1-09BF4876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1F9DE-7057-4D36-B611-F46C6DEA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5109B-46C3-4D7D-AA2A-DA18042B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07CCE5-A2D1-46A7-A94E-A469EBFF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033D8-F810-4BFF-9912-749B99F1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E30E14-C890-42B5-98A4-019C1FCA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3756F-FF0E-49F2-979D-F8394DEFA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D02D4-9A91-4C26-8E37-3DE8598E6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9821A-96F9-4EE3-A437-722692DA7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AECFF-2296-4938-9777-2F53C02B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75D10B-1335-40F3-ABA5-DB7C7382F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8C2A63-12B4-4CAD-93CD-829F9E26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4FE79-8E10-429D-BF5E-CA739E33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47A37-D326-4500-8058-E2633C7C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E8812E-6ABF-4FE4-9D2F-CD175019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2A374-C6EA-4D7A-86AF-A77FB9C6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62289-07CA-48AD-AE61-B27FB78B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3451E-94C7-4160-8135-189BCE42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E7C4D-ADEA-4BE6-82CD-1B96BD781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CB781-41A6-4F89-802B-723F27788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3C944E-46AB-419E-AE90-0EC65D5A9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5EAE3C-2785-4EB7-8BFB-71395FCC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D610FD-69BA-4D5C-89F8-CEDCE1CF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3525F8-CB8A-471B-948A-AF96752A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CA0E04-94DC-4FDA-924D-70C9BA77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916C7B-E056-4C84-BB04-EFEB01190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DB3F1E-DFD1-47F1-83A6-2C072EEF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0F391E-6758-4F64-87C8-2D46A8FA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72BBC4-ECC9-4A26-8244-AC9C1935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CD1007-EFD5-416C-8E44-52E1E114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6502C-C40D-4746-8A0B-52571C118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4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A87016-F584-4ADC-AFFC-82C3FB962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74763E-36F2-4542-A013-084C08801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24C7A1-B757-41ED-B69A-65C23815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F23391-29D6-4FB4-A105-9B1DBB751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75CA1D-1675-4A6A-AEFB-863E87CA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F79DB4-8357-46C0-80F6-CA270D1A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DB58D5-F294-4A40-9088-EDB450E5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BA3AAF-BA52-4E3D-BC4C-0A82AE36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512171-1E95-400D-BAE8-0CE8CFF8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D932FA-952C-4E62-AE45-1AF0562C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DBAEE9-EBCF-4CAF-B09C-E8068BDA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6F5643-8825-43F2-BA2E-B57149F04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BA73E6-D34D-4708-98CF-36C92AF0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F3A88E-C9F9-43DD-8A55-209EEBA43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EC0E19-A232-4223-9BC9-04D3B0B4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B0840A-192D-4C08-85AB-1F874ED1D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B2B38F-1808-49B4-AD00-B49DB017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E35D3D-1CD5-4D38-BFB6-E4E846AE7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B79433-F8B3-4DD4-B1F2-6A1E70DB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044354-AA54-44E2-91F6-F9DF6AA9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D8D4A1-A3A3-4108-8B6D-266771AA7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272B37-D1E6-48C0-8950-02965EBA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C54DF6-A2AB-4CE0-AA5D-8E5D7937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57003B-7CDA-4328-9ED3-F3BD081B5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5E8D79-F879-4267-9A35-6E4D49747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EA9225-87BD-49BC-B99C-0DAE90ACD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934476-C428-4D96-B8A5-117E1A99A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2B177D-325F-4115-ABDC-62863DA2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9E88C1-A029-41EC-9DFC-2C63088E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4A2D51-1EE7-4C0D-850E-CBC228EF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F6F6BC-B89A-46F9-967C-E87B3957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BA81CB-AFBC-452A-B797-035483D8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2D0609-08B6-43BD-9B3F-E6EE249F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DA44AE-C7D7-4558-90B2-00EFAF87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3B148C-49DE-410D-AA2F-93E484D4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105869-6312-41BA-BD06-1F27349D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2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BEBA08-D38C-4462-AC87-6FCDD789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67EBB1-23F7-444B-8ED0-03ABAC6D1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7597FC-F5EA-4ACA-8B4E-3CB138AB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CE5451-C655-4B05-A2A2-990FADA0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2390BC-8DAE-471D-BF2A-9E14470D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DD1830-3F14-4D9F-8C7A-4A5D0D58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591EAE-5C16-4F2E-A96B-174119F3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5500D3-1C14-4E0D-A672-0E77D071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E4CB-75D6-44A7-8727-B5CD1F0F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5D2A27-5B10-4F2D-A3B8-1CAE8136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BD716D-0991-4E87-B261-ECDCADD9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7616A4-93E2-4AFD-A07F-7ED889F3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AA0D75-669B-49F5-9760-8AC6634CF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EAA0E2-14FF-468B-A3F1-F8C153EF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D9280D-71F8-4AA9-8239-838436928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1A7327-F375-43B6-96D4-9011869C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98CA6F-1238-427F-93E8-FFAA9896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FD2137-41CF-4751-81EC-32030DB3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C85B9A-94E9-40B7-A1DC-4C3602AA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FAC696-6060-4572-BF0C-2CD06CE8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2EFD0D-DE34-4BF8-BB36-14E9BE0D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0C3FEC-CD54-42D6-80AF-1BED6319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4B77E0-4BA4-4AC9-8116-C6B2843C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318A7F-2FFD-4533-A1BB-5085CA2D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3C5AD6-E78B-4511-90DF-7E211479F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76CC36-A68E-4B71-AE8C-DD2EEEB96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E855-45BE-4835-92C4-4B34B5E2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A3C3-B2E3-445B-BA31-71FB7869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518CB-99C4-4D30-86C2-8131BB810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7E29-24B0-42B6-BEEC-E89F9036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5A755-A508-47B0-92E1-380F915E8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E925C-934E-44C8-AF0E-26102429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62129-739B-4629-B441-7B7F3406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4DA40-D987-49AD-931B-84562823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A1427-9C1A-450F-8FE8-46B88BFF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26522-8497-4C0B-8CA1-1F62350B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7438D-858E-431A-982D-C0D4208C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D8190-0E18-44E7-B7A7-24A54B01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89B8F-757D-4711-89B0-4F8A2163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DEF95-0449-4C21-A4B5-56045CF8E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0942-802E-4423-8BCE-F7EF6052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738B2-B8C2-4C4D-989A-90211BA08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B1CDF-A910-401A-ACDC-0085466A1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775B6-DC04-495B-A646-094067AB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17BB9A-7914-453B-93EA-7B532297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3E196-B728-4D71-93F3-6484E311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FF6B2-4D31-446E-94E3-2120EB73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F840C-8851-4315-BEB5-F8B2628F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34A9D-DD45-4EDA-B0FB-98779BD5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55C11-6A95-43EB-8B10-7F2B48E8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B569A-D550-4266-B8C1-FAEA4947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44B1-5D72-4BA9-BBFD-3EA75A29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02A01-C87C-4BB2-BE4C-686EFB90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047F4-15E0-40A4-879F-019990AE6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65751-48A1-434C-8591-13370130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EB80C-3B14-43BC-94DF-EF2BA9FDC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AF34E-DD4F-4A5C-B71B-4E5EEC18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0BC06-1E10-424B-8101-E2783926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A81F6-0F34-4B06-9423-BDF24980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A39CB-C3A5-43E4-BAE9-8FFC1166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71C48-541D-4D70-932F-C20E944F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EB401-ED29-47CB-A614-921B747E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B861-8F32-4E28-B5ED-DF21BEF7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593FF-3847-4196-BB7D-25CDF0CE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DD9EE-3354-4632-82F9-07067101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3F6B6-0375-405F-B87A-0E2ED061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CC735-788B-4E46-AC76-4F6248D00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C0A42-23DB-44EC-89D8-B5570A969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EA559-664E-434E-8279-8333E689C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4E5B0-F26B-44E1-8FA3-134E6B2C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144BF-6867-4380-888E-8B1F5474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5E633-C342-4317-BB2F-64CF66E1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EA7DEC-0663-4355-8530-B25F3F46C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8ACA-2F7A-4E3B-A106-D25FDEA0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1246320" y="617040"/>
            <a:ext cx="844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B7CC4D-7CCB-4714-B793-FBC1D1F4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FCFE5-299D-49A9-A171-4C8BA229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755F2-FCF2-44A4-9212-A280CEFB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4726F-5647-400B-8FAB-032B1F41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1281240" y="416736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D92D9-FE20-4830-838F-ACC929D7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594400" y="201780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28124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5594400" y="416736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D009C6-E8C2-468D-8B4B-27D3F5E2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12704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973200" y="201780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12812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412704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973200" y="416736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D3C21-2254-4F92-923C-FF10FBD2C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E68AE-E016-4B7D-9E10-04AD722D4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2B98E-EF69-4880-B355-7B39026D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C9BFC-E18E-4B87-8B00-88DC6BFD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2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2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3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3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25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26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27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E201-5355-4489-B810-4768EF36EEE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7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7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8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59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59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2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2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0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6CF75-0637-449F-BE3F-61B34A084BC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3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65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31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32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33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9ECC-0BC2-42C3-ACD6-824FD2AF2B1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9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0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ftr" idx="3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 type="sldNum" idx="36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D5B3-7EA0-4929-945D-C2FEB837A63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75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5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6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6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37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38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9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3CFFD-0370-4AC1-B8C9-4F7CE2FB72F0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1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1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2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2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F6B6-94B3-43AF-A311-74903E045B2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86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6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7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88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88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dt" idx="4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ftr" idx="4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 type="sldNum" idx="4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660F-2B8C-472C-B3A8-C1AC964A9B0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2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2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3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4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4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4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4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4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6F45-8A00-44D6-A759-BA23D358DB74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98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8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99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99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4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5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5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EA99-5711-4504-848C-AD4420F3C535}" type="slidenum">
              <a:rPr b="0" lang="en-GB" sz="1000" spc="-1" strike="noStrike">
                <a:solidFill>
                  <a:srgbClr val="8f210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0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1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2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3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4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5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6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7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8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69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0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1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2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73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74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1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3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3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173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4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5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6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7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8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79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0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1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2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3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4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5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6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87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188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8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9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30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1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2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3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4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5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6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7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8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39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0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1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2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3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44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245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0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1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2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AE8F-D25E-42F7-ACF9-DD5F449E027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288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89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0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1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2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3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4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5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6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7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8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299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0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1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02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03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3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4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5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F5D9-C462-46AA-8087-F0B2E513861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346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7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8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49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0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1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2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3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4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5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6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7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8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59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360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361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6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17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18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A0F0-B2EA-4376-94D8-74BAC09F223D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04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5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6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7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8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09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0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1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2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3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4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5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6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7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18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19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19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0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1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8631-D63F-440F-859E-9AC56B5D7B9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29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462" name="Rectangle 30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3" name="Rectangle 31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4" name="Rectangle 32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5" name="Rectangle 33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6" name="Rectangle 34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7" name="Rectangle 35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8" name="Rectangle 36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69" name="Rectangle 37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0" name="Rectangle 38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1" name="Rectangle 39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2" name="Rectangle 40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3" name="Rectangle 41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4" name="Rectangle 42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5" name="Rectangle 43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476" name="Rectangle 44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pic>
        <p:nvPicPr>
          <p:cNvPr id="47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7846920" y="6373800"/>
            <a:ext cx="1800360" cy="35892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22"/>
          </p:nvPr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5th October 201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3"/>
          </p:nvPr>
        </p:nvSpPr>
        <p:spPr>
          <a:xfrm>
            <a:off x="288720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RC CBU Graduate Statistics L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4"/>
          </p:nvPr>
        </p:nvSpPr>
        <p:spPr>
          <a:xfrm>
            <a:off x="783864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83C9-3E53-4335-BD95-A0C7CF0F266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8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9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9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9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9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4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BinomialConfidence" TargetMode="External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kappa" TargetMode="External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4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4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hyperlink" Target="http://imaging.mrc-cbu.cam.ac.uk/statswiki/FAQ/BinomialConfidence/2gpp" TargetMode="External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9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9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4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4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6110-979F-445A-A7D1-39D8FB02E76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84168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</a:t>
            </a: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 </a:t>
            </a:r>
            <a:br>
              <a:rPr sz="3600"/>
            </a:br>
            <a:r>
              <a:rPr b="0" lang="en-GB" sz="3600" spc="-1" strike="noStrike">
                <a:solidFill>
                  <a:srgbClr val="8f210b"/>
                </a:solidFill>
                <a:latin typeface="Albertus Medium"/>
              </a:rPr>
              <a:t>Graduate Statistics Course 2019</a:t>
            </a:r>
            <a:br>
              <a:rPr sz="3600"/>
            </a:br>
            <a:r>
              <a:rPr b="0" lang="en-US" sz="1800" spc="-1" strike="noStrike">
                <a:solidFill>
                  <a:srgbClr val="515f7b"/>
                </a:solidFill>
                <a:latin typeface="Verdana"/>
              </a:rPr>
              <a:t>http://imaging.mrc-cbu.cam.ac.uk/statswiki/StatsCourse2019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D68FD-8455-4DB3-B8D4-F6660934678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s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bservations are classified according to some schem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numbers of observations falling into each category of the classification are called the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85B3E-B9F3-4B14-803F-4FF1C536A67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Visual Field Deficit Problems in Hemiplegic Patient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02" name="Picture 4" descr=""/>
          <p:cNvPicPr/>
          <p:nvPr/>
        </p:nvPicPr>
        <p:blipFill>
          <a:blip r:embed="rId1"/>
          <a:stretch/>
        </p:blipFill>
        <p:spPr>
          <a:xfrm>
            <a:off x="3943440" y="1844640"/>
            <a:ext cx="343692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4A69-08A6-4257-A837-51A5E066488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07" name="Line 10"/>
          <p:cNvSpPr/>
          <p:nvPr/>
        </p:nvSpPr>
        <p:spPr>
          <a:xfrm flipH="1" flipV="1">
            <a:off x="6436800" y="2895120"/>
            <a:ext cx="908280" cy="762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95360" y="2133720"/>
            <a:ext cx="536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ut the variable that holds the category information into the Variables(s) box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ess OK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09" name="Picture 14" descr=""/>
          <p:cNvPicPr/>
          <p:nvPr/>
        </p:nvPicPr>
        <p:blipFill>
          <a:blip r:embed="rId1"/>
          <a:stretch/>
        </p:blipFill>
        <p:spPr>
          <a:xfrm>
            <a:off x="5611680" y="2362320"/>
            <a:ext cx="412596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40BF-5AC3-4006-A9DE-DA9F1523D21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14" name="Picture 4" descr=""/>
          <p:cNvPicPr/>
          <p:nvPr/>
        </p:nvPicPr>
        <p:blipFill>
          <a:blip r:embed="rId1"/>
          <a:stretch/>
        </p:blipFill>
        <p:spPr>
          <a:xfrm>
            <a:off x="1155600" y="1981080"/>
            <a:ext cx="84171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4622-D8D1-47B6-8EBA-2EEFADD8C51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Bar ch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ing ‘Bar Chart’ from the ‘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arts’ options gives you a graphic which you can cut and past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0" name="Picture 10" descr=""/>
          <p:cNvPicPr/>
          <p:nvPr/>
        </p:nvPicPr>
        <p:blipFill>
          <a:blip r:embed="rId1"/>
          <a:stretch/>
        </p:blipFill>
        <p:spPr>
          <a:xfrm>
            <a:off x="5199120" y="2057400"/>
            <a:ext cx="412596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9A84-52DD-45FF-8152-7230A89C16B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tingency Table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	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29760" y="2017800"/>
            <a:ext cx="50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tems are classified by two or more classifications simultaneous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.g.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ide of Damag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and </a:t>
            </a:r>
            <a:r>
              <a:rPr b="0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everity of Visual Field Deficit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Descriptive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rosstab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Side of Damage’ and ‘Visual Field Deficit’ to define the row/column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26" name="Picture 4" descr=""/>
          <p:cNvPicPr/>
          <p:nvPr/>
        </p:nvPicPr>
        <p:blipFill>
          <a:blip r:embed="rId1"/>
          <a:stretch/>
        </p:blipFill>
        <p:spPr>
          <a:xfrm>
            <a:off x="5599080" y="2205000"/>
            <a:ext cx="41259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AD2A-C3C8-4F94-9B38-4B74BB8FE46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1" name="Picture 4" descr=""/>
          <p:cNvPicPr/>
          <p:nvPr/>
        </p:nvPicPr>
        <p:blipFill>
          <a:blip r:embed="rId1"/>
          <a:stretch/>
        </p:blipFill>
        <p:spPr>
          <a:xfrm>
            <a:off x="1155600" y="2286000"/>
            <a:ext cx="8417160" cy="226224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6"/>
          <p:cNvSpPr/>
          <p:nvPr/>
        </p:nvSpPr>
        <p:spPr>
          <a:xfrm>
            <a:off x="1238400" y="48769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looks as if there may be more VFD in RBD than in LB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4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5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E809-1A73-4190-BE9F-5FE76D710F2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nalysing a frequency table directly from the frequenci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1"/>
          <a:stretch/>
        </p:blipFill>
        <p:spPr>
          <a:xfrm>
            <a:off x="4951440" y="1981080"/>
            <a:ext cx="4125960" cy="4114800"/>
          </a:xfrm>
          <a:prstGeom prst="rect">
            <a:avLst/>
          </a:prstGeom>
          <a:ln w="0">
            <a:noFill/>
          </a:ln>
        </p:spPr>
      </p:pic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577440" y="2133360"/>
            <a:ext cx="412596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Sometimes the observations have already been aggregated into frequenci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nter the frequencies for each cells of the table, identified by the levels of the classifying factors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.g. Lexical Decis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Type: {1 = Word , 2 = Nonword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Outcome: {1 = ‘Word’ , 2 = ‘Nonword’}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y count for response ‘Word’ to Word items is 8.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requencies are stored in the variable called ‘freq’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0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1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B681-28B4-45C0-9818-E2BA82812DA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Weight Cases’ to analys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1"/>
          <a:stretch/>
        </p:blipFill>
        <p:spPr>
          <a:xfrm>
            <a:off x="4621320" y="2057400"/>
            <a:ext cx="4125960" cy="1417680"/>
          </a:xfrm>
          <a:prstGeom prst="rect">
            <a:avLst/>
          </a:prstGeom>
          <a:ln w="0">
            <a:noFill/>
          </a:ln>
        </p:spPr>
      </p:pic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59880" y="2286000"/>
            <a:ext cx="4125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variable ‘freq’ contains the frequencie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5C78-F09A-4728-B570-2A99B92EFAB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Use ‘Crosstabs’ to  generate the frequency tab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660240" y="2286000"/>
            <a:ext cx="436896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ross-classification by ‘typ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Stimulus = {Word, Non-word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d by ‘outcome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esponse = {‘Word’, Non-word’}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150" name="Picture 6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29084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8266E-1D91-4F46-AA2D-ECD5366EF33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4: Categorical Data Analysi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56" name="Text Box 1029"/>
          <p:cNvSpPr/>
          <p:nvPr/>
        </p:nvSpPr>
        <p:spPr>
          <a:xfrm>
            <a:off x="1320840" y="2362320"/>
            <a:ext cx="816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f210b"/>
                </a:solidFill>
                <a:latin typeface="Albertus Medium"/>
              </a:rPr>
              <a:t>Categorical Data, Contingency Tables and the Pearson Chi-Squared Statistic</a:t>
            </a:r>
            <a:endParaRPr b="0" lang="en-US" sz="3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7" name="Text Box 1030"/>
          <p:cNvSpPr/>
          <p:nvPr/>
        </p:nvSpPr>
        <p:spPr>
          <a:xfrm>
            <a:off x="1486080" y="3505320"/>
            <a:ext cx="78390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25 October 201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cd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261A-7886-4491-B6F6-542BDA5AA7C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mple use of SPSS Crosstab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155" name="Picture 3" descr=""/>
          <p:cNvPicPr/>
          <p:nvPr/>
        </p:nvPicPr>
        <p:blipFill>
          <a:blip r:embed="rId1"/>
          <a:stretch/>
        </p:blipFill>
        <p:spPr>
          <a:xfrm>
            <a:off x="5281560" y="2590920"/>
            <a:ext cx="3979800" cy="1463400"/>
          </a:xfrm>
          <a:prstGeom prst="rect">
            <a:avLst/>
          </a:prstGeom>
          <a:ln w="0">
            <a:noFill/>
          </a:ln>
        </p:spPr>
      </p:pic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77440" y="213372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ord recognition looks quite good (8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Non-word rejection is low (50%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BB94-BD72-4972-898F-9FADDBCDA29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Goodness-of-Fit Chi-squared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ppose we have a Theor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.e. a ‘model’ that predicts the expected frequencies (E) in each categ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actually observe the frequencies (O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measure how good a fit the data are to the theory by the formula: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= </a:t>
            </a:r>
            <a:r>
              <a:rPr b="0" lang="en-US" sz="3200" spc="-1" strike="noStrike">
                <a:solidFill>
                  <a:srgbClr val="8f210b"/>
                </a:solidFill>
                <a:latin typeface="Symbol"/>
                <a:ea typeface="Symbol"/>
              </a:rPr>
              <a:t>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O-E)</a:t>
            </a:r>
            <a:r>
              <a:rPr b="0" lang="en-US" sz="24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/E where the sum is over all th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is called Pearson’s Chi-Squared Statistic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FBA9-A6F8-4FE2-BA9F-9CB511FCC84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ifica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Large values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suggest the model doesn’t fit the data wel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leads to Goodness-of-fit tes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e look at the value of X</a:t>
            </a:r>
            <a:r>
              <a:rPr b="0" lang="en-US" sz="2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see whether it is unusually large by reference to a </a:t>
            </a:r>
            <a:r>
              <a:rPr b="0" lang="en-US" sz="36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3200" spc="-1" strike="noStrike" baseline="38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8f210b"/>
                </a:solidFill>
                <a:latin typeface="Albertus Medium"/>
              </a:rPr>
              <a:t>-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istribution with k-1 degrees-of-freedom where k is the number of categories in the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A84B-A412-4EC6-A180-146D7AAA232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Degrees of Freedom’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n elusive concept that occurs throughout statistics. In essence it means the number of independent pieces of information in a sample relevant to the estimation of some parameters or calculation of a statisti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5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or example in a two-by-two contingency table with a given set of marginal totals only 1 of the cells at a time is ‘free’ -- once it is specified all the others are determined -- and the table thus has a single degree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important point here is we can only interpret X</a:t>
            </a:r>
            <a:r>
              <a:rPr b="0" lang="en-US" sz="2000" spc="-1" strike="noStrike" baseline="4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f we also know its degrees of freedom, as we see later when we look at the chi-squared distribution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A23F-734D-4438-B47B-8F730BE0961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Degrees of Freedom = 1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1281240" y="2017800"/>
          <a:ext cx="8416800" cy="4114800"/>
        </p:xfrm>
        <a:graphic>
          <a:graphicData uri="http://schemas.openxmlformats.org/drawingml/2006/table">
            <a:tbl>
              <a:tblPr/>
              <a:tblGrid>
                <a:gridCol w="2805120"/>
                <a:gridCol w="2806560"/>
                <a:gridCol w="280512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3-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-3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3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2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9990-F955-46B3-9833-0A36DED2DCE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15f7b"/>
                </a:solidFill>
                <a:latin typeface="Albertus Medium"/>
              </a:rPr>
              <a:t>Degrees of Freedom = 4 (#rows-1) times (#cols -1)</a:t>
            </a:r>
            <a:endParaRPr b="0" lang="en-US" sz="28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487440" y="2017800"/>
          <a:ext cx="9210600" cy="4114800"/>
        </p:xfrm>
        <a:graphic>
          <a:graphicData uri="http://schemas.openxmlformats.org/drawingml/2006/table">
            <a:tbl>
              <a:tblPr/>
              <a:tblGrid>
                <a:gridCol w="2303280"/>
                <a:gridCol w="2301840"/>
                <a:gridCol w="2303640"/>
                <a:gridCol w="2301840"/>
              </a:tblGrid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x-y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1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1368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0-u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2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12-x-u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7-y-v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x+y+u+v-9</a:t>
                      </a:r>
                      <a:endParaRPr b="0" lang="en-US" sz="24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Row 3 Total = 1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5760">
                      <a:solidFill>
                        <a:srgbClr val="8f210b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1 Total = 12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1368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2 Total = 7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Column 3 Total = 11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576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8f210b"/>
                          </a:solidFill>
                          <a:latin typeface="Albertus Medium"/>
                        </a:rPr>
                        <a:t>Table Total = 30</a:t>
                      </a:r>
                      <a:endParaRPr b="0" lang="en-US" sz="1600" spc="-1" strike="noStrike">
                        <a:solidFill>
                          <a:srgbClr val="8f210b"/>
                        </a:solidFill>
                        <a:latin typeface="Albertus Medium"/>
                      </a:endParaRPr>
                    </a:p>
                  </a:txBody>
                  <a:tcPr anchor="ctr" marL="90000" marR="90000">
                    <a:lnL w="5760">
                      <a:solidFill>
                        <a:srgbClr val="8f210b"/>
                      </a:solidFill>
                    </a:lnL>
                    <a:lnR w="13680">
                      <a:solidFill>
                        <a:srgbClr val="8f210b"/>
                      </a:solidFill>
                    </a:lnR>
                    <a:lnT w="5760">
                      <a:solidFill>
                        <a:srgbClr val="8f210b"/>
                      </a:solidFill>
                    </a:lnT>
                    <a:lnB w="13680">
                      <a:solidFill>
                        <a:srgbClr val="8f210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7A05-7CC6-43C8-AF9B-CD8A61A1A696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olman, Ritchie and Kalish (1946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1324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lace learning in ra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pSp>
        <p:nvGrpSpPr>
          <p:cNvPr id="1187" name="Group 1062"/>
          <p:cNvGrpSpPr/>
          <p:nvPr/>
        </p:nvGrpSpPr>
        <p:grpSpPr>
          <a:xfrm>
            <a:off x="914400" y="2971800"/>
            <a:ext cx="3341880" cy="3263760"/>
            <a:chOff x="914400" y="2971800"/>
            <a:chExt cx="3341880" cy="3263760"/>
          </a:xfrm>
        </p:grpSpPr>
        <p:grpSp>
          <p:nvGrpSpPr>
            <p:cNvPr id="1188" name="Group 1058"/>
            <p:cNvGrpSpPr/>
            <p:nvPr/>
          </p:nvGrpSpPr>
          <p:grpSpPr>
            <a:xfrm>
              <a:off x="914400" y="2971800"/>
              <a:ext cx="3341880" cy="2819160"/>
              <a:chOff x="914400" y="2971800"/>
              <a:chExt cx="3341880" cy="2819160"/>
            </a:xfrm>
          </p:grpSpPr>
          <p:sp>
            <p:nvSpPr>
              <p:cNvPr id="1189" name="Oval 1033"/>
              <p:cNvSpPr/>
              <p:nvPr/>
            </p:nvSpPr>
            <p:spPr>
              <a:xfrm>
                <a:off x="914400" y="4267080"/>
                <a:ext cx="1447920" cy="1523880"/>
              </a:xfrm>
              <a:prstGeom prst="ellipse">
                <a:avLst/>
              </a:pr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0" name="AutoShape 1034"/>
              <p:cNvSpPr/>
              <p:nvPr/>
            </p:nvSpPr>
            <p:spPr>
              <a:xfrm>
                <a:off x="1524240" y="2971800"/>
                <a:ext cx="1904760" cy="1295280"/>
              </a:xfrm>
              <a:custGeom>
                <a:avLst/>
                <a:gdLst>
                  <a:gd name="textAreaLeft" fmla="*/ 1095120 w 1904760"/>
                  <a:gd name="textAreaRight" fmla="*/ 1841400 w 1904760"/>
                  <a:gd name="textAreaTop" fmla="*/ 290520 h 1295280"/>
                  <a:gd name="textAreaBottom" fmla="*/ 438120 h 1295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6079"/>
                    </a:moveTo>
                    <a:lnTo>
                      <a:pt x="18078" y="0"/>
                    </a:lnTo>
                    <a:lnTo>
                      <a:pt x="18078" y="4846"/>
                    </a:lnTo>
                    <a:lnTo>
                      <a:pt x="12427" y="4846"/>
                    </a:lnTo>
                    <a:cubicBezTo>
                      <a:pt x="5564" y="4846"/>
                      <a:pt x="0" y="8120"/>
                      <a:pt x="0" y="12158"/>
                    </a:cubicBezTo>
                    <a:lnTo>
                      <a:pt x="0" y="21600"/>
                    </a:lnTo>
                    <a:lnTo>
                      <a:pt x="2521" y="21600"/>
                    </a:lnTo>
                    <a:lnTo>
                      <a:pt x="2521" y="12158"/>
                    </a:lnTo>
                    <a:cubicBezTo>
                      <a:pt x="2521" y="9482"/>
                      <a:pt x="6956" y="7312"/>
                      <a:pt x="12427" y="7312"/>
                    </a:cubicBezTo>
                    <a:lnTo>
                      <a:pt x="18078" y="7312"/>
                    </a:lnTo>
                    <a:lnTo>
                      <a:pt x="18078" y="12158"/>
                    </a:lnTo>
                    <a:lnTo>
                      <a:pt x="21600" y="6079"/>
                    </a:lnTo>
                    <a:close/>
                  </a:path>
                </a:pathLst>
              </a:custGeom>
              <a:noFill/>
              <a:ln w="9360">
                <a:solidFill>
                  <a:srgbClr val="8f21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1" name="Text Box 1035"/>
              <p:cNvSpPr/>
              <p:nvPr/>
            </p:nvSpPr>
            <p:spPr>
              <a:xfrm>
                <a:off x="3094560" y="3047760"/>
                <a:ext cx="1161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700"/>
                  </a:spcBef>
                  <a:buClr>
                    <a:srgbClr val="a3ce82"/>
                  </a:buClr>
                  <a:buSzPct val="5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8f210b"/>
                    </a:solidFill>
                    <a:latin typeface="Albertus Medium"/>
                  </a:rPr>
                  <a:t>Food</a:t>
                </a:r>
                <a:endParaRPr b="0" lang="en-US" sz="2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sp>
            <p:nvSpPr>
              <p:cNvPr id="1192" name="Text Box 1057"/>
              <p:cNvSpPr/>
              <p:nvPr/>
            </p:nvSpPr>
            <p:spPr>
              <a:xfrm>
                <a:off x="1467000" y="320040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A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</p:grpSp>
        <p:sp>
          <p:nvSpPr>
            <p:cNvPr id="1193" name="Text Box 1060"/>
            <p:cNvSpPr/>
            <p:nvPr/>
          </p:nvSpPr>
          <p:spPr>
            <a:xfrm>
              <a:off x="2142000" y="5715000"/>
              <a:ext cx="1629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a3ce82"/>
                </a:buClr>
                <a:buSzPct val="5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f210b"/>
                  </a:solidFill>
                  <a:latin typeface="Albertus Medium"/>
                </a:rPr>
                <a:t>Phase 1</a:t>
              </a:r>
              <a:endParaRPr b="0" lang="en-US" sz="28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  <p:grpSp>
        <p:nvGrpSpPr>
          <p:cNvPr id="1194" name="Group 1067"/>
          <p:cNvGrpSpPr/>
          <p:nvPr/>
        </p:nvGrpSpPr>
        <p:grpSpPr>
          <a:xfrm>
            <a:off x="4469760" y="2590920"/>
            <a:ext cx="5128200" cy="3582720"/>
            <a:chOff x="4469760" y="2590920"/>
            <a:chExt cx="5128200" cy="3582720"/>
          </a:xfrm>
        </p:grpSpPr>
        <p:grpSp>
          <p:nvGrpSpPr>
            <p:cNvPr id="1195" name="Group 1064"/>
            <p:cNvGrpSpPr/>
            <p:nvPr/>
          </p:nvGrpSpPr>
          <p:grpSpPr>
            <a:xfrm>
              <a:off x="4572000" y="2590920"/>
              <a:ext cx="5025960" cy="3582720"/>
              <a:chOff x="4572000" y="2590920"/>
              <a:chExt cx="5025960" cy="3582720"/>
            </a:xfrm>
          </p:grpSpPr>
          <p:sp>
            <p:nvSpPr>
              <p:cNvPr id="1196" name="Text Box 1046"/>
              <p:cNvSpPr/>
              <p:nvPr/>
            </p:nvSpPr>
            <p:spPr>
              <a:xfrm>
                <a:off x="7696080" y="3886200"/>
                <a:ext cx="19018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f210b"/>
                    </a:solidFill>
                    <a:latin typeface="Albertus Medium"/>
                  </a:rPr>
                  <a:t>D: New alley to original food source</a:t>
                </a:r>
                <a:endParaRPr b="0" lang="en-US" sz="1800" spc="-1" strike="noStrike">
                  <a:solidFill>
                    <a:srgbClr val="8f210b"/>
                  </a:solidFill>
                  <a:latin typeface="Albertus Medium"/>
                </a:endParaRPr>
              </a:p>
            </p:txBody>
          </p:sp>
          <p:grpSp>
            <p:nvGrpSpPr>
              <p:cNvPr id="1197" name="Group 1063"/>
              <p:cNvGrpSpPr/>
              <p:nvPr/>
            </p:nvGrpSpPr>
            <p:grpSpPr>
              <a:xfrm>
                <a:off x="4572000" y="2590920"/>
                <a:ext cx="3798720" cy="3582720"/>
                <a:chOff x="4572000" y="2590920"/>
                <a:chExt cx="3798720" cy="3582720"/>
              </a:xfrm>
            </p:grpSpPr>
            <p:grpSp>
              <p:nvGrpSpPr>
                <p:cNvPr id="1198" name="Group 1059"/>
                <p:cNvGrpSpPr/>
                <p:nvPr/>
              </p:nvGrpSpPr>
              <p:grpSpPr>
                <a:xfrm>
                  <a:off x="4572000" y="2590920"/>
                  <a:ext cx="3798720" cy="3352680"/>
                  <a:chOff x="4572000" y="2590920"/>
                  <a:chExt cx="3798720" cy="3352680"/>
                </a:xfrm>
              </p:grpSpPr>
              <p:sp>
                <p:nvSpPr>
                  <p:cNvPr id="1199" name="Oval 1038"/>
                  <p:cNvSpPr/>
                  <p:nvPr/>
                </p:nvSpPr>
                <p:spPr>
                  <a:xfrm>
                    <a:off x="4876560" y="4419720"/>
                    <a:ext cx="1447920" cy="1523880"/>
                  </a:xfrm>
                  <a:prstGeom prst="ellipse">
                    <a:avLst/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0" name="AutoShape 1040"/>
                  <p:cNvSpPr/>
                  <p:nvPr/>
                </p:nvSpPr>
                <p:spPr>
                  <a:xfrm rot="20100000">
                    <a:off x="4952520" y="3809880"/>
                    <a:ext cx="380880" cy="762120"/>
                  </a:xfrm>
                  <a:prstGeom prst="upArrow">
                    <a:avLst>
                      <a:gd name="adj1" fmla="val 46259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1" name="AutoShape 1041"/>
                  <p:cNvSpPr/>
                  <p:nvPr/>
                </p:nvSpPr>
                <p:spPr>
                  <a:xfrm rot="1500000">
                    <a:off x="5943600" y="38095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2" name="AutoShape 1042"/>
                  <p:cNvSpPr/>
                  <p:nvPr/>
                </p:nvSpPr>
                <p:spPr>
                  <a:xfrm>
                    <a:off x="5467320" y="3705120"/>
                    <a:ext cx="304560" cy="762120"/>
                  </a:xfrm>
                  <a:prstGeom prst="upArrow">
                    <a:avLst>
                      <a:gd name="adj1" fmla="val 60111"/>
                      <a:gd name="adj2" fmla="val 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3" name="AutoShape 1043"/>
                  <p:cNvSpPr/>
                  <p:nvPr/>
                </p:nvSpPr>
                <p:spPr>
                  <a:xfrm rot="2700000">
                    <a:off x="6666840" y="3086280"/>
                    <a:ext cx="457200" cy="2057400"/>
                  </a:xfrm>
                  <a:prstGeom prst="upArrow">
                    <a:avLst>
                      <a:gd name="adj1" fmla="val 50000"/>
                      <a:gd name="adj2" fmla="val 112500"/>
                    </a:avLst>
                  </a:prstGeom>
                  <a:noFill/>
                  <a:ln w="9360">
                    <a:solidFill>
                      <a:srgbClr val="8f210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4" name="Text Box 1045"/>
                  <p:cNvSpPr/>
                  <p:nvPr/>
                </p:nvSpPr>
                <p:spPr>
                  <a:xfrm>
                    <a:off x="7209000" y="3352680"/>
                    <a:ext cx="11617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700"/>
                      </a:spcBef>
                      <a:buClr>
                        <a:srgbClr val="a3ce82"/>
                      </a:buClr>
                      <a:buSzPct val="55000"/>
                      <a:buFont typeface="Wingdings" charset="2"/>
                      <a:buChar char="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Food</a:t>
                    </a:r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5" name="Text Box 1047"/>
                  <p:cNvSpPr/>
                  <p:nvPr/>
                </p:nvSpPr>
                <p:spPr>
                  <a:xfrm>
                    <a:off x="5505480" y="3276720"/>
                    <a:ext cx="3268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A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6" name="Text Box 1048"/>
                  <p:cNvSpPr/>
                  <p:nvPr/>
                </p:nvSpPr>
                <p:spPr>
                  <a:xfrm>
                    <a:off x="6103080" y="3505320"/>
                    <a:ext cx="32544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C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7" name="Text Box 1049"/>
                  <p:cNvSpPr/>
                  <p:nvPr/>
                </p:nvSpPr>
                <p:spPr>
                  <a:xfrm>
                    <a:off x="4572000" y="3505320"/>
                    <a:ext cx="4600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8" name="Text Box 1052"/>
                  <p:cNvSpPr/>
                  <p:nvPr/>
                </p:nvSpPr>
                <p:spPr>
                  <a:xfrm>
                    <a:off x="7465680" y="3048120"/>
                    <a:ext cx="348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09" name="Line 1053"/>
                  <p:cNvSpPr/>
                  <p:nvPr/>
                </p:nvSpPr>
                <p:spPr>
                  <a:xfrm flipH="1" flipV="1">
                    <a:off x="7009920" y="4114800"/>
                    <a:ext cx="685800" cy="53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0" name="Text Box 1054"/>
                  <p:cNvSpPr/>
                  <p:nvPr/>
                </p:nvSpPr>
                <p:spPr>
                  <a:xfrm>
                    <a:off x="5140800" y="2590920"/>
                    <a:ext cx="10296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spcBef>
                        <a:spcPts val="4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8f210b"/>
                        </a:solidFill>
                        <a:latin typeface="Albertus Medium"/>
                      </a:rPr>
                      <a:t>Blocked</a:t>
                    </a:r>
                    <a:endParaRPr b="0" lang="en-US" sz="1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  <p:sp>
                <p:nvSpPr>
                  <p:cNvPr id="1211" name="Line 1056"/>
                  <p:cNvSpPr/>
                  <p:nvPr/>
                </p:nvSpPr>
                <p:spPr>
                  <a:xfrm>
                    <a:off x="5410080" y="2895480"/>
                    <a:ext cx="228600" cy="838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800" spc="-1" strike="noStrike">
                      <a:solidFill>
                        <a:srgbClr val="8f210b"/>
                      </a:solidFill>
                      <a:latin typeface="Albertus Medium"/>
                    </a:endParaRPr>
                  </a:p>
                </p:txBody>
              </p:sp>
            </p:grpSp>
            <p:sp>
              <p:nvSpPr>
                <p:cNvPr id="1212" name="Text Box 1061"/>
                <p:cNvSpPr/>
                <p:nvPr/>
              </p:nvSpPr>
              <p:spPr>
                <a:xfrm>
                  <a:off x="6210720" y="5653080"/>
                  <a:ext cx="162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buClr>
                      <a:srgbClr val="a3ce82"/>
                    </a:buClr>
                    <a:buSzPct val="55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f210b"/>
                      </a:solidFill>
                      <a:latin typeface="Albertus Medium"/>
                    </a:rPr>
                    <a:t>Phase 2</a:t>
                  </a:r>
                  <a:endParaRPr b="0" lang="en-US" sz="2800" spc="-1" strike="noStrike">
                    <a:solidFill>
                      <a:srgbClr val="8f210b"/>
                    </a:solidFill>
                    <a:latin typeface="Albertus Medium"/>
                  </a:endParaRPr>
                </a:p>
              </p:txBody>
            </p:sp>
          </p:grpSp>
        </p:grpSp>
        <p:sp>
          <p:nvSpPr>
            <p:cNvPr id="1213" name="Text Box 1065"/>
            <p:cNvSpPr/>
            <p:nvPr/>
          </p:nvSpPr>
          <p:spPr>
            <a:xfrm>
              <a:off x="4469760" y="31860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  <p:sp>
          <p:nvSpPr>
            <p:cNvPr id="1214" name="Text Box 1066"/>
            <p:cNvSpPr/>
            <p:nvPr/>
          </p:nvSpPr>
          <p:spPr>
            <a:xfrm>
              <a:off x="5954040" y="3200400"/>
              <a:ext cx="60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f210b"/>
                  </a:solidFill>
                  <a:latin typeface="Albertus Medium"/>
                </a:rPr>
                <a:t>New</a:t>
              </a:r>
              <a:endParaRPr b="0" lang="en-US" sz="1600" spc="-1" strike="noStrike">
                <a:solidFill>
                  <a:srgbClr val="8f210b"/>
                </a:solidFill>
                <a:latin typeface="Albertus Mediu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44D29-FEF5-445A-A2BF-EEB08562834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Goodness of Fit Test by han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280880" y="3123720"/>
            <a:ext cx="8126280" cy="30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olman, Ritchie and Kalish (1946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X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=(4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8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+(15-8)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/8 = 9.25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e 95% percentile of the 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</a:t>
            </a:r>
            <a:r>
              <a:rPr b="0" lang="en-US" sz="1800" spc="-1" strike="noStrike" baseline="4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(3) distribution is 7.82 (from table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 &lt; 0.0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499"/>
              </a:spcBef>
              <a:spcAft>
                <a:spcPts val="499"/>
              </a:spcAft>
              <a:buClr>
                <a:srgbClr val="ee92b7"/>
              </a:buClr>
              <a:buSzPct val="55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Exact P = 0.026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499"/>
              </a:spcBef>
              <a:spcAft>
                <a:spcPts val="499"/>
              </a:spcAft>
              <a:buClr>
                <a:srgbClr val="a3dc96"/>
              </a:buClr>
              <a:buSzPct val="50000"/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f210b"/>
                </a:solidFill>
                <a:latin typeface="Albertus Medium"/>
              </a:rPr>
              <a:t>Via MATLAB: 1-chi2cdf(9.25,3)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50000"/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We reject the Null Hypothesis that Alleys are chosen equiprobably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220" name="Object 1030"/>
          <p:cNvGraphicFramePr/>
          <p:nvPr/>
        </p:nvGraphicFramePr>
        <p:xfrm>
          <a:off x="1733400" y="1981080"/>
          <a:ext cx="4125960" cy="24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1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3400" y="1981080"/>
                    <a:ext cx="4125960" cy="24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B467-B342-4174-9F6A-15C1C095B87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lley’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1,2,3,4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hoices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51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349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4,5,8,15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27" name="Picture 1031" descr=""/>
          <p:cNvPicPr/>
          <p:nvPr/>
        </p:nvPicPr>
        <p:blipFill>
          <a:blip r:embed="rId1"/>
          <a:stretch/>
        </p:blipFill>
        <p:spPr>
          <a:xfrm>
            <a:off x="5694480" y="2133720"/>
            <a:ext cx="318744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2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725E-87DA-47E7-8568-3F9C25443C78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ive the alleys lab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1 = ‘A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2 = ‘B’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tc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3" name="Picture 5" descr=""/>
          <p:cNvPicPr/>
          <p:nvPr/>
        </p:nvPicPr>
        <p:blipFill>
          <a:blip r:embed="rId1"/>
          <a:stretch/>
        </p:blipFill>
        <p:spPr>
          <a:xfrm>
            <a:off x="6024600" y="2209680"/>
            <a:ext cx="270180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5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DEB09-43D0-4AA9-B8D2-617F18A1090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The Naming of Part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ategorical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requency Tab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Goodness-of-Fit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Distribu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Binomial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hi-squared test for associ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mpson, Cohen and McNema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0366-E6FA-40FD-B9EC-0D00673202BB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ata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Weight Cas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‘choices’ as this contains the frequency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39" name="Picture 1030" descr=""/>
          <p:cNvPicPr/>
          <p:nvPr/>
        </p:nvPicPr>
        <p:blipFill>
          <a:blip r:embed="rId1"/>
          <a:stretch/>
        </p:blipFill>
        <p:spPr>
          <a:xfrm>
            <a:off x="5364000" y="2514600"/>
            <a:ext cx="397044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1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2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951B-4AF4-47F9-8CA9-0084D82E08B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(d) Goodness of Fit Test by SPS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412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statistics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Chi-square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nter the hypothetical probabilities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r the expected frequenc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45" name="Picture 5" descr=""/>
          <p:cNvPicPr/>
          <p:nvPr/>
        </p:nvPicPr>
        <p:blipFill>
          <a:blip r:embed="rId1"/>
          <a:stretch/>
        </p:blipFill>
        <p:spPr>
          <a:xfrm>
            <a:off x="4951440" y="1371600"/>
            <a:ext cx="4019400" cy="2327400"/>
          </a:xfrm>
          <a:prstGeom prst="rect">
            <a:avLst/>
          </a:prstGeom>
          <a:ln w="0">
            <a:noFill/>
          </a:ln>
        </p:spPr>
      </p:pic>
      <p:pic>
        <p:nvPicPr>
          <p:cNvPr id="1246" name="Picture 6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501336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DFE53-B947-4D78-844A-B1E2152CA2B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from Chi-Square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51" name="Rectangle 4"/>
          <p:cNvSpPr/>
          <p:nvPr/>
        </p:nvSpPr>
        <p:spPr>
          <a:xfrm>
            <a:off x="2313360" y="1981080"/>
            <a:ext cx="25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52" name="Picture 5" descr=""/>
          <p:cNvPicPr/>
          <p:nvPr/>
        </p:nvPicPr>
        <p:blipFill>
          <a:blip r:embed="rId1"/>
          <a:stretch/>
        </p:blipFill>
        <p:spPr>
          <a:xfrm>
            <a:off x="2394000" y="2590920"/>
            <a:ext cx="3870360" cy="163656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6" descr=""/>
          <p:cNvPicPr/>
          <p:nvPr/>
        </p:nvPicPr>
        <p:blipFill>
          <a:blip r:embed="rId2"/>
          <a:stretch/>
        </p:blipFill>
        <p:spPr>
          <a:xfrm>
            <a:off x="2394000" y="4419720"/>
            <a:ext cx="366228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5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6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F5EB-38E7-46F3-8619-DDA8AC9E5B5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Chi-Squared (</a:t>
            </a:r>
            <a:r>
              <a:rPr b="0" lang="en-US" sz="4400" spc="-1" strike="noStrike">
                <a:solidFill>
                  <a:srgbClr val="515f7b"/>
                </a:solidFill>
                <a:latin typeface="Symbol"/>
                <a:ea typeface="Symbol"/>
              </a:rPr>
              <a:t></a:t>
            </a:r>
            <a:r>
              <a:rPr b="0" lang="en-US" sz="4000" spc="-1" strike="noStrike" baseline="38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) Distribution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58" name="Picture 7" descr="chisquared"/>
          <p:cNvPicPr/>
          <p:nvPr/>
        </p:nvPicPr>
        <p:blipFill>
          <a:blip r:embed="rId1"/>
          <a:stretch/>
        </p:blipFill>
        <p:spPr>
          <a:xfrm>
            <a:off x="4703760" y="2057400"/>
            <a:ext cx="5010120" cy="3429000"/>
          </a:xfrm>
          <a:prstGeom prst="rect">
            <a:avLst/>
          </a:prstGeom>
          <a:ln w="0">
            <a:noFill/>
          </a:ln>
        </p:spPr>
      </p:pic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hape determined by ‘degrees of freedom’ (d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J-shaped for df = 1 or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nimodal for df &gt; 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Mode = df - 2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ean = df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719A-83B2-45EC-8D40-0B91DC7A90A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 performance and 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a multiple choice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-alternative forced choice (2AF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p(error) =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AFC 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p(correct) = 0.25, p(error) = 0.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Was the subject just guessing when she got 14/20 in a 2AFC test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6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7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8E3C-E1AF-4FA6-9830-88D8B9417BA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12920" y="213372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alyze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Non-Parametric </a:t>
            </a:r>
            <a:r>
              <a:rPr b="0" lang="en-US" sz="24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Binomial Tes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70" name="Picture 5" descr=""/>
          <p:cNvPicPr/>
          <p:nvPr/>
        </p:nvPicPr>
        <p:blipFill>
          <a:blip r:embed="rId1"/>
          <a:stretch/>
        </p:blipFill>
        <p:spPr>
          <a:xfrm>
            <a:off x="4869000" y="2590920"/>
            <a:ext cx="439416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2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3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B250-C103-45DF-AB6C-485735B5895A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utput of Binomial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75" name="Picture 3" descr=""/>
          <p:cNvPicPr/>
          <p:nvPr/>
        </p:nvPicPr>
        <p:blipFill>
          <a:blip r:embed="rId1"/>
          <a:stretch/>
        </p:blipFill>
        <p:spPr>
          <a:xfrm>
            <a:off x="2228760" y="2133720"/>
            <a:ext cx="6297840" cy="1261800"/>
          </a:xfrm>
          <a:prstGeom prst="rect">
            <a:avLst/>
          </a:prstGeom>
          <a:ln w="0">
            <a:noFill/>
          </a:ln>
        </p:spPr>
      </p:pic>
      <p:sp>
        <p:nvSpPr>
          <p:cNvPr id="1276" name="Text Box 4"/>
          <p:cNvSpPr/>
          <p:nvPr/>
        </p:nvSpPr>
        <p:spPr>
          <a:xfrm>
            <a:off x="1303200" y="3952800"/>
            <a:ext cx="769140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data (14/20) are consistent with chance performanc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nfidence interval approach can be a more informative alternativ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45720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8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9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A55C-7F7B-42C6-8D68-A147C7EA6EA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onfidence Intervals for Binomial Proportion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1" name="Text Box 4"/>
          <p:cNvSpPr/>
          <p:nvPr/>
        </p:nvSpPr>
        <p:spPr>
          <a:xfrm>
            <a:off x="907920" y="2438280"/>
            <a:ext cx="769140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X=14, N=20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ALD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99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901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95% CI (WILSON)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(0.481,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0.855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Consistent with the P values, the Confidence Interval only </a:t>
            </a:r>
            <a:r>
              <a:rPr b="1" i="1" lang="en-US" sz="2000" spc="-1" strike="noStrike">
                <a:solidFill>
                  <a:srgbClr val="000000"/>
                </a:solidFill>
                <a:latin typeface="Albertus Medium"/>
              </a:rPr>
              <a:t>just</a:t>
            </a: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 includes 0.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(Calculated using a spreadsheet available on the CBU statistics website at </a:t>
            </a:r>
            <a:r>
              <a:rPr b="1" lang="en-US" sz="1600" spc="-1" strike="noStrike" u="sng">
                <a:solidFill>
                  <a:srgbClr val="a3ce82"/>
                </a:solidFill>
                <a:uFillTx/>
                <a:latin typeface="Times New Roman"/>
                <a:hlinkClick r:id="rId1"/>
              </a:rPr>
              <a:t>http://imaging.mrc-cbu.cam.ac.uk/statswiki/FAQ/BinomialConfidence</a:t>
            </a:r>
            <a:r>
              <a:rPr b="1" lang="en-US" sz="1600" spc="-1" strike="noStrike">
                <a:solidFill>
                  <a:srgbClr val="000000"/>
                </a:solidFill>
                <a:latin typeface="Albertus Medium"/>
              </a:rPr>
              <a:t>. which also features a similar solution to the difference in two (in)dependent proportions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6E0A-A2DF-4532-9693-C8EF89AD5CE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oah’s Ark, </a:t>
            </a: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or The World of Two by Two</a:t>
            </a:r>
            <a:endParaRPr b="0" lang="en-US" sz="20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arson’s Chi-squared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Yates’ Continuity Correc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sher’s Exact 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dds and Odds Ratio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log odds and log odds ratio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39480" indent="-3394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nsitivity and Specific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Gerd Gigerenzer (2002). </a:t>
            </a:r>
            <a:r>
              <a:rPr b="0" i="1" lang="en-US" sz="2400" spc="-1" strike="noStrike">
                <a:solidFill>
                  <a:srgbClr val="8f210b"/>
                </a:solidFill>
                <a:latin typeface="Albertus Medium"/>
              </a:rPr>
              <a:t>Reckoning with Risk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Pengui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35480" indent="-28296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ignal Detection Theor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87" name="Picture 6" descr=""/>
          <p:cNvPicPr/>
          <p:nvPr/>
        </p:nvPicPr>
        <p:blipFill>
          <a:blip r:embed="rId1"/>
          <a:stretch/>
        </p:blipFill>
        <p:spPr>
          <a:xfrm>
            <a:off x="7467480" y="2743200"/>
            <a:ext cx="1197000" cy="184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Date Placeholder 2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9" name="Footer Placeholder 3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0" name="Slide Number Placeholder 4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24EF-91D0-4CA8-89D3-89A7E89CB82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ignal Detection Theor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92" name="Picture 3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921120" cy="2654280"/>
          </a:xfrm>
          <a:prstGeom prst="rect">
            <a:avLst/>
          </a:prstGeom>
          <a:ln w="0">
            <a:noFill/>
          </a:ln>
        </p:spPr>
      </p:pic>
      <p:sp>
        <p:nvSpPr>
          <p:cNvPr id="1293" name="Text Box 4"/>
          <p:cNvSpPr/>
          <p:nvPr/>
        </p:nvSpPr>
        <p:spPr>
          <a:xfrm>
            <a:off x="457200" y="259092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8f210b"/>
                </a:solidFill>
                <a:latin typeface="Verdana"/>
              </a:rPr>
              <a:t>Example 2a from Macmillan &amp; Creelman, 1991, p.3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294" name="Picture 5" descr=""/>
          <p:cNvPicPr/>
          <p:nvPr/>
        </p:nvPicPr>
        <p:blipFill>
          <a:blip r:embed="rId2"/>
          <a:stretch/>
        </p:blipFill>
        <p:spPr>
          <a:xfrm>
            <a:off x="1905120" y="4724280"/>
            <a:ext cx="3665520" cy="13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A737D-B744-429B-8009-3132D36536F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SPSS procedures that help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FREQUENCI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information about one classification at a tim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ROSSTAB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bined information about more than one classifica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CHI-SQUAR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comparing observed frequencies with hypothetical on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f210b"/>
                </a:solidFill>
                <a:latin typeface="Albertus Medium"/>
              </a:rPr>
              <a:t>BINOMI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or testing whether performance differs from ‘chance’ </a:t>
            </a:r>
            <a:r>
              <a:rPr b="0" i="1" lang="en-US" sz="1400" spc="-1" strike="noStrike">
                <a:solidFill>
                  <a:srgbClr val="8f210b"/>
                </a:solidFill>
                <a:latin typeface="Albertus Medium"/>
              </a:rPr>
              <a:t>(whatever that is)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6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7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A41C-F729-4DD0-8DF2-4A76AFA9C08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ensitivity and Specificity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esting for the presence of a Disease in a person from a popul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nsitivity: Probability that a Positive result means when the Disease is present - P(+|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ecificity: Probability that a person who tests Positive has the Disease – P(D|+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Influenced by the Prevalence of the Disease in the population: P(D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f210b"/>
                </a:solidFill>
                <a:latin typeface="Albertus Medium"/>
              </a:rPr>
              <a:t>See Martin Bland: An Introduction to Medical Statistic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ay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228E-F4FE-4876-99AF-D31397A475D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05" name="Object 0"/>
          <p:cNvGraphicFramePr/>
          <p:nvPr/>
        </p:nvGraphicFramePr>
        <p:xfrm>
          <a:off x="3135240" y="2895480"/>
          <a:ext cx="4656240" cy="263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5240" y="2895480"/>
                    <a:ext cx="465624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7" name="Text Box 5"/>
          <p:cNvSpPr/>
          <p:nvPr/>
        </p:nvSpPr>
        <p:spPr>
          <a:xfrm>
            <a:off x="1403280" y="510552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he New treatment is positively associated with recovery (Recovery rate 10.6% vs 4.8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3FF8-4E27-4B3F-837C-3125FAB1249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ospital II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13" name="Object 4"/>
          <p:cNvGraphicFramePr/>
          <p:nvPr/>
        </p:nvGraphicFramePr>
        <p:xfrm>
          <a:off x="3500280" y="2898720"/>
          <a:ext cx="4884840" cy="262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0280" y="2898720"/>
                    <a:ext cx="4884840" cy="26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5" name="Text Box 5"/>
          <p:cNvSpPr/>
          <p:nvPr/>
        </p:nvSpPr>
        <p:spPr>
          <a:xfrm>
            <a:off x="1403280" y="5181480"/>
            <a:ext cx="81550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gain, the New treatment is positively associated with recovery (Recovery rate 98.8% vs 67.2%)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F1FE-1C79-482A-83F1-AFC70789AAD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mpson’s Paradox: example (III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bined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321" name="Object 4"/>
          <p:cNvGraphicFramePr/>
          <p:nvPr/>
        </p:nvGraphicFramePr>
        <p:xfrm>
          <a:off x="4381560" y="2819520"/>
          <a:ext cx="4113000" cy="311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560" y="2819520"/>
                    <a:ext cx="411300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3" name="Text Box 5"/>
          <p:cNvSpPr/>
          <p:nvPr/>
        </p:nvSpPr>
        <p:spPr>
          <a:xfrm>
            <a:off x="1403280" y="5181480"/>
            <a:ext cx="815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en combined, the New treatment is negatively associated with recovery (Recovery rate 35.8% vs 57.9%)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5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6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88BC-0BA0-4409-AE8B-292EF2D5C2D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15f7b"/>
                </a:solidFill>
                <a:latin typeface="Albertus Medium"/>
              </a:rPr>
              <a:t>Simpson’s Paradox explained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328" name="Object 5"/>
          <p:cNvGraphicFramePr/>
          <p:nvPr/>
        </p:nvGraphicFramePr>
        <p:xfrm>
          <a:off x="343080" y="2133720"/>
          <a:ext cx="501624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2133720"/>
                    <a:ext cx="501624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Text Box 7"/>
          <p:cNvSpPr/>
          <p:nvPr/>
        </p:nvSpPr>
        <p:spPr>
          <a:xfrm>
            <a:off x="5599080" y="2637000"/>
            <a:ext cx="396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end points of the in-between line are differently weighted averages of the end points of the upper and lower lin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6F7C-27C8-429A-B7BF-97ADBF0DF7D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agreemen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Kapp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judges rate items on the same categorical sca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ow well do they agree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e Crosstabs with two classifying variable having the same categori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Kappa under the Statistics op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imaging.mrc-cbu.cam.ac.uk/statswiki/FAQ/kapp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Alternative kappa (Brennan and Prediger, 198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99C6-80E5-407E-80AA-A8094C6B1DB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1568520" y="4038480"/>
            <a:ext cx="73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% Agreement is 21/30 = 70% but could be high due to chanc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41" name="Picture 5" descr=""/>
          <p:cNvPicPr/>
          <p:nvPr/>
        </p:nvPicPr>
        <p:blipFill>
          <a:blip r:embed="rId1"/>
          <a:stretch/>
        </p:blipFill>
        <p:spPr>
          <a:xfrm>
            <a:off x="3135240" y="2057400"/>
            <a:ext cx="4127400" cy="1490760"/>
          </a:xfrm>
          <a:prstGeom prst="rect">
            <a:avLst/>
          </a:prstGeom>
          <a:ln w="0">
            <a:noFill/>
          </a:ln>
        </p:spPr>
      </p:pic>
      <p:sp>
        <p:nvSpPr>
          <p:cNvPr id="1342" name="Oval 6"/>
          <p:cNvSpPr/>
          <p:nvPr/>
        </p:nvSpPr>
        <p:spPr>
          <a:xfrm>
            <a:off x="8915400" y="1219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3" name="Oval 7"/>
          <p:cNvSpPr/>
          <p:nvPr/>
        </p:nvSpPr>
        <p:spPr>
          <a:xfrm>
            <a:off x="5045040" y="28432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4" name="Oval 8"/>
          <p:cNvSpPr/>
          <p:nvPr/>
        </p:nvSpPr>
        <p:spPr>
          <a:xfrm>
            <a:off x="5646600" y="298764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5" name="Oval 9"/>
          <p:cNvSpPr/>
          <p:nvPr/>
        </p:nvSpPr>
        <p:spPr>
          <a:xfrm>
            <a:off x="6248520" y="3124080"/>
            <a:ext cx="152280" cy="1526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7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8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9247-E738-4DEE-A85D-E825B10DB41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hance-corrected agreement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350" name="Picture 6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305680" cy="1360440"/>
          </a:xfrm>
          <a:prstGeom prst="rect">
            <a:avLst/>
          </a:prstGeom>
          <a:ln w="0">
            <a:noFill/>
          </a:ln>
        </p:spPr>
      </p:pic>
      <p:sp>
        <p:nvSpPr>
          <p:cNvPr id="1351" name="Text Box 7"/>
          <p:cNvSpPr/>
          <p:nvPr/>
        </p:nvSpPr>
        <p:spPr>
          <a:xfrm>
            <a:off x="495360" y="4876920"/>
            <a:ext cx="818676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Cohen’s Kappa (</a:t>
            </a:r>
            <a:r>
              <a:rPr b="0" lang="en-US" sz="2000" spc="-1" strike="noStrike">
                <a:solidFill>
                  <a:srgbClr val="8f210b"/>
                </a:solidFill>
                <a:latin typeface="Symbol"/>
                <a:ea typeface="Symbol"/>
              </a:rPr>
              <a:t>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 = 0.473) is chance-corrected: 47.3%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reement between the judges is well above chance, but is it good enough?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3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4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FF44-25C4-4870-AA07-78206EA9411D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easuring chang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1320840" y="1980720"/>
            <a:ext cx="841680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patient with acquired dyslexia does a 40 item picture naming task twice at a 6 month interv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7" name="Rectangle 5"/>
          <p:cNvSpPr/>
          <p:nvPr/>
        </p:nvSpPr>
        <p:spPr>
          <a:xfrm>
            <a:off x="1403280" y="4836960"/>
            <a:ext cx="8417160" cy="14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ccuracy falls from 19/40 to 11/4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s this a real deterioration, noting that 28/40 items show no change across the two tests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9040" indent="-32904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58" name="Picture 6" descr=""/>
          <p:cNvPicPr/>
          <p:nvPr/>
        </p:nvPicPr>
        <p:blipFill>
          <a:blip r:embed="rId1"/>
          <a:stretch/>
        </p:blipFill>
        <p:spPr>
          <a:xfrm>
            <a:off x="3382920" y="3352680"/>
            <a:ext cx="3565440" cy="1463760"/>
          </a:xfrm>
          <a:prstGeom prst="rect">
            <a:avLst/>
          </a:prstGeom>
          <a:ln w="0">
            <a:noFill/>
          </a:ln>
        </p:spPr>
      </p:pic>
      <p:sp>
        <p:nvSpPr>
          <p:cNvPr id="1359" name="Oval 7"/>
          <p:cNvSpPr/>
          <p:nvPr/>
        </p:nvSpPr>
        <p:spPr>
          <a:xfrm>
            <a:off x="5073480" y="4175280"/>
            <a:ext cx="15264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0" name="Oval 8"/>
          <p:cNvSpPr/>
          <p:nvPr/>
        </p:nvSpPr>
        <p:spPr>
          <a:xfrm>
            <a:off x="5765760" y="4335480"/>
            <a:ext cx="152280" cy="152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2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3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079F-B88B-42AC-A387-1B74257C748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4825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This is specifically designed for this type of hypothesi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quivalent to a Binomial Test (with p=0.5) of Freq(Correct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Error) vs. Freq(Error</a:t>
            </a:r>
            <a:r>
              <a:rPr b="0" lang="en-US" sz="1800" spc="-1" strike="noStrike">
                <a:solidFill>
                  <a:srgbClr val="8f210b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Correct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-322200">
              <a:spcBef>
                <a:spcPts val="45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In this case 10 vs. 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66" name="Picture 4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3951360" cy="2838240"/>
          </a:xfrm>
          <a:prstGeom prst="rect">
            <a:avLst/>
          </a:prstGeom>
          <a:ln w="0">
            <a:noFill/>
          </a:ln>
        </p:spPr>
      </p:pic>
      <p:pic>
        <p:nvPicPr>
          <p:cNvPr id="1367" name="Picture 5" descr=""/>
          <p:cNvPicPr/>
          <p:nvPr/>
        </p:nvPicPr>
        <p:blipFill>
          <a:blip r:embed="rId2"/>
          <a:stretch/>
        </p:blipFill>
        <p:spPr>
          <a:xfrm>
            <a:off x="1066680" y="4191120"/>
            <a:ext cx="3565800" cy="1463400"/>
          </a:xfrm>
          <a:prstGeom prst="rect">
            <a:avLst/>
          </a:prstGeom>
          <a:ln w="0">
            <a:noFill/>
          </a:ln>
        </p:spPr>
      </p:pic>
      <p:sp>
        <p:nvSpPr>
          <p:cNvPr id="1368" name="Oval 7"/>
          <p:cNvSpPr/>
          <p:nvPr/>
        </p:nvSpPr>
        <p:spPr>
          <a:xfrm>
            <a:off x="3405240" y="49687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9" name="Oval 8"/>
          <p:cNvSpPr/>
          <p:nvPr/>
        </p:nvSpPr>
        <p:spPr>
          <a:xfrm>
            <a:off x="2717640" y="5132520"/>
            <a:ext cx="228600" cy="228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6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2960-8116-4E6B-A1D5-4EE144089115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nt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umerical measurements or cou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ntinuous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Reaction time, BOLD signal, EEG signal, …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Discrete measuremen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Whole numbers, like numbers of errors, marks in an exam …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1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2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D6FB-E120-421F-A308-9AB50456359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McNemar’s Test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12560" y="1981080"/>
            <a:ext cx="4825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 this case we can assert that there is evidence of deterior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75" name="Picture 6" descr=""/>
          <p:cNvPicPr/>
          <p:nvPr/>
        </p:nvPicPr>
        <p:blipFill>
          <a:blip r:embed="rId1"/>
          <a:stretch/>
        </p:blipFill>
        <p:spPr>
          <a:xfrm>
            <a:off x="5281560" y="2057400"/>
            <a:ext cx="4446720" cy="128916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7"/>
          <p:cNvSpPr/>
          <p:nvPr/>
        </p:nvSpPr>
        <p:spPr>
          <a:xfrm>
            <a:off x="271440" y="4076640"/>
            <a:ext cx="8612280" cy="18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obtain confidence intervals for the difference in proportions: </a:t>
            </a:r>
            <a:r>
              <a:rPr b="0" lang="en-GB" sz="20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imaging.mrc-cbu.cam.ac.uk/statswiki/FAQ/BinomialConfidence/2gp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Also McNemar-Bowker tests for changes in times in a k x k tab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8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79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A951E-991D-477B-8AD9-8E4D60AF1DC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hi-squared test of associ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mparing two or more classified sampl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esting whether the frequencies for one classification depend on the category of another classifica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nly to be used when the numbers in the cells are frequencies, never with proportions, percentages or measurement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3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4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7B42-56DC-4CBB-8E20-3FAE5EC2591E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ssociation or Independenc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12920" y="2209680"/>
            <a:ext cx="4125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s Side of Lesion associated with Sex of Patien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lect Frequencies and then ‘Chi-square’ and ‘Phi’ under Statistics, and  ‘Exact’ under Exact…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87" name="Picture 5" descr=""/>
          <p:cNvPicPr/>
          <p:nvPr/>
        </p:nvPicPr>
        <p:blipFill>
          <a:blip r:embed="rId1"/>
          <a:stretch/>
        </p:blipFill>
        <p:spPr>
          <a:xfrm>
            <a:off x="4869000" y="2286000"/>
            <a:ext cx="495144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89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0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D598-251A-4D9C-800B-6C2FC09005D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he Output ...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29760" y="3962160"/>
            <a:ext cx="4125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any above-chance association between Sex and Side of Les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393" name="Picture 5" descr=""/>
          <p:cNvPicPr/>
          <p:nvPr/>
        </p:nvPicPr>
        <p:blipFill>
          <a:blip r:embed="rId1"/>
          <a:stretch/>
        </p:blipFill>
        <p:spPr>
          <a:xfrm>
            <a:off x="3630600" y="1905120"/>
            <a:ext cx="6083280" cy="2157120"/>
          </a:xfrm>
          <a:prstGeom prst="rect">
            <a:avLst/>
          </a:prstGeom>
          <a:ln w="0">
            <a:noFill/>
          </a:ln>
        </p:spPr>
      </p:pic>
      <p:pic>
        <p:nvPicPr>
          <p:cNvPr id="1394" name="Picture 6" descr=""/>
          <p:cNvPicPr/>
          <p:nvPr/>
        </p:nvPicPr>
        <p:blipFill>
          <a:blip r:embed="rId2"/>
          <a:stretch/>
        </p:blipFill>
        <p:spPr>
          <a:xfrm>
            <a:off x="4621320" y="4114800"/>
            <a:ext cx="4811760" cy="1646280"/>
          </a:xfrm>
          <a:prstGeom prst="rect">
            <a:avLst/>
          </a:prstGeom>
          <a:ln w="0">
            <a:noFill/>
          </a:ln>
        </p:spPr>
      </p:pic>
      <p:sp>
        <p:nvSpPr>
          <p:cNvPr id="1395" name="Rectangle 7"/>
          <p:cNvSpPr/>
          <p:nvPr/>
        </p:nvSpPr>
        <p:spPr>
          <a:xfrm>
            <a:off x="382680" y="5734080"/>
            <a:ext cx="9007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an derive confidence intervals for difference in proportion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BinomialConfidence/2gp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7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8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C45A-D347-499D-8B8B-E102DC9BB217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Larger tables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wo way tables can be analysed the same wa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ree- (or more)  way classifications need a more analytical approach such as Log Linear Modelling, available with the Loglinear procedure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Date Placeholder 4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2" name="Footer Placeholder 5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3" name="Slide Number Placeholder 6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B5DF-C985-42C6-AD22-5646EDC8E169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A 3 x 3 Exampl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405" name="Picture 5" descr=""/>
          <p:cNvPicPr/>
          <p:nvPr/>
        </p:nvPicPr>
        <p:blipFill>
          <a:blip r:embed="rId1"/>
          <a:stretch/>
        </p:blipFill>
        <p:spPr>
          <a:xfrm>
            <a:off x="247680" y="1981080"/>
            <a:ext cx="5010120" cy="1636920"/>
          </a:xfrm>
          <a:prstGeom prst="rect">
            <a:avLst/>
          </a:prstGeom>
          <a:ln w="0">
            <a:noFill/>
          </a:ln>
        </p:spPr>
      </p:pic>
      <p:pic>
        <p:nvPicPr>
          <p:cNvPr id="1406" name="Picture 6" descr=""/>
          <p:cNvPicPr/>
          <p:nvPr/>
        </p:nvPicPr>
        <p:blipFill>
          <a:blip r:embed="rId2"/>
          <a:stretch/>
        </p:blipFill>
        <p:spPr>
          <a:xfrm>
            <a:off x="5199120" y="2057400"/>
            <a:ext cx="3960720" cy="1920960"/>
          </a:xfrm>
          <a:prstGeom prst="rect">
            <a:avLst/>
          </a:prstGeom>
          <a:ln w="0">
            <a:noFill/>
          </a:ln>
        </p:spPr>
      </p:pic>
      <p:pic>
        <p:nvPicPr>
          <p:cNvPr id="1407" name="Picture 7" descr=""/>
          <p:cNvPicPr/>
          <p:nvPr/>
        </p:nvPicPr>
        <p:blipFill>
          <a:blip r:embed="rId3"/>
          <a:stretch/>
        </p:blipFill>
        <p:spPr>
          <a:xfrm>
            <a:off x="2146320" y="4267080"/>
            <a:ext cx="465300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930D-827B-40E3-8E8B-B3D797216FC0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ooling of data can mislead, or even violate the assumptions of the tests (cf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Simpson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Each individual observation is supposed to be independent of the othe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 pooling multiple observations across a group of subjects will typically violate this rule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05280" indent="-305280">
              <a:spcBef>
                <a:spcPts val="601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needs to be handled using either summary measures (e.g. Log Odds), Generalised Linear Mixed Models or Matched Pairs: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MatchedPai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9D79-5CD4-49EC-8641-5DF2442529D1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Cautions (II)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is conventional to be cautious if there are low  Expected values in any cell (e.g. E&lt;5)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cent research suggest this is overcautious, though use of Fisher’s Exact Test is recommended in the general case. Campbell (2007) however suggests (N-1/N) x chi-square for 2x2 tables with Expected Values &gt; 1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lternatively one can amalgamate across two or more categori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1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22F0-621E-487B-8063-F3E1FD5A912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ext week at 11am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OVA of balanced multi-factorial designs: between subject designs, and single subject studies 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                                                                                             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DCFE-86DF-4474-87AF-AA23B565D7C2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Types of Data: Qualitative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Nomina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Ordinal data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B282-1DB6-42F9-9A10-045E620E559C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Nominal 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descriptive label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utcome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Error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Correct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ex: {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Fe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Mal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4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5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02F4-44CB-4B3C-8A96-51533EBB9463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5f7b"/>
                </a:solidFill>
                <a:latin typeface="Albertus Medium"/>
              </a:rPr>
              <a:t>From ICD-10: Chapter V: Mental and behavioural disorders</a:t>
            </a:r>
            <a:br>
              <a:rPr sz="2000"/>
            </a:br>
            <a:r>
              <a:rPr b="0" lang="en-US" sz="1400" spc="-1" strike="noStrike">
                <a:solidFill>
                  <a:srgbClr val="515f7b"/>
                </a:solidFill>
                <a:latin typeface="Albertus Medium"/>
              </a:rPr>
              <a:t>(International Statistical Classification of Diseases and Related Health Problems)</a:t>
            </a:r>
            <a:endParaRPr b="0" lang="en-US" sz="1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F00-F99 - Mental and behaviour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-F09) Organic, including symptomatic, mental disorder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0.) Dementia in Alzheimer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) Vascular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1.1) Multi-infarct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) Dementia in other diseases classified elsewher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0) Dementia in Pick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1) Dementia in Creutzfeldt-Jakob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2) Dementia in Huntingt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3) Dementia in Parkinson's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2" marL="1040040" indent="-207720">
              <a:spcBef>
                <a:spcPts val="34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2.4) Dementia in human immunodeficiency virus (HIV)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3.) Unspecified dementia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4.) Organic amnesic syndrome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5.) Delirium, not induced by alcohol and other psychoactive substances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6.) Other mental disorders due to brain damage and dysfunction and to physical diseas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7.) Personality and behavioural disorders due to brain disease, damage and dysfunction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lvl="1" marL="676080" indent="-259920">
              <a:spcBef>
                <a:spcPts val="349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(F09.) Unspecified organic or symptomatic mental disorder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Date Placeholder 3"/>
          <p:cNvSpPr/>
          <p:nvPr/>
        </p:nvSpPr>
        <p:spPr>
          <a:xfrm>
            <a:off x="990720" y="6324480"/>
            <a:ext cx="18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25th October 2018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9" name="Footer Placeholder 4"/>
          <p:cNvSpPr/>
          <p:nvPr/>
        </p:nvSpPr>
        <p:spPr>
          <a:xfrm>
            <a:off x="2887560" y="6324480"/>
            <a:ext cx="486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Albertus Medium"/>
              </a:rPr>
              <a:t>MRC CBU Graduate Statistics Lecture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0" name="Slide Number Placeholder 5"/>
          <p:cNvSpPr/>
          <p:nvPr/>
        </p:nvSpPr>
        <p:spPr>
          <a:xfrm>
            <a:off x="7839000" y="6324480"/>
            <a:ext cx="18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886E-0D6D-4886-ACD6-732FA12B2F54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1246320" y="617040"/>
            <a:ext cx="844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5f7b"/>
                </a:solidFill>
                <a:latin typeface="Albertus Medium"/>
              </a:rPr>
              <a:t>Ordinal</a:t>
            </a:r>
            <a:endParaRPr b="0" lang="en-US" sz="36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1281240" y="201780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ategories are ranged in an orde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ating scal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Endorsement of a statement: {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Neutral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Disagree</a:t>
            </a:r>
            <a:r>
              <a:rPr b="0" i="1" lang="en-US" sz="2000" spc="-1" strike="noStrike">
                <a:solidFill>
                  <a:srgbClr val="8f210b"/>
                </a:solidFill>
                <a:latin typeface="Albertus Medium"/>
              </a:rPr>
              <a:t>, </a:t>
            </a:r>
            <a:r>
              <a:rPr b="0" i="1" lang="en-US" sz="2000" spc="-1" strike="noStrike" u="sng">
                <a:solidFill>
                  <a:srgbClr val="8f210b"/>
                </a:solidFill>
                <a:uFillTx/>
                <a:latin typeface="Albertus Medium"/>
              </a:rPr>
              <a:t>Strongly disagree</a:t>
            </a: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ge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ge Group: {20+ to 30, 30+ to 40, 40+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osi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Birth order: {1st, 2nd, 3rd, 4th, ...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arget position: {Left, Central, Right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Trial block: {1st, 2nd, 3rd, …}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5T17:30:56Z</dcterms:created>
  <dc:creator>CBU</dc:creator>
  <dc:description/>
  <dc:language>en-US</dc:language>
  <cp:lastModifiedBy>Peter Watson</cp:lastModifiedBy>
  <cp:lastPrinted>2004-10-20T13:39:49Z</cp:lastPrinted>
  <dcterms:modified xsi:type="dcterms:W3CDTF">2021-09-29T12:16:41Z</dcterms:modified>
  <cp:revision>123</cp:revision>
  <dc:subject/>
  <dc:title>Aims and Objectives</dc:title>
</cp:coreProperties>
</file>